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9.png" ContentType="image/png"/>
  <Override PartName="/ppt/media/image8.wmf" ContentType="image/x-wmf"/>
  <Override PartName="/ppt/media/image17.gif" ContentType="image/gif"/>
  <Override PartName="/ppt/media/image2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1D2-BB32-4993-8AC5-792BD65F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A35-9363-4C53-A447-35C5284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E50-C94C-41FC-A6BD-DE795476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1D9-02BE-4C51-8063-F344F737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615D-C9D2-4056-8FD2-94D3FA52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611-5CC6-4DDC-8FB4-A1F0E481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A8F8-48CC-4938-8D8F-2A78AB7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809-4424-4130-9809-BA587A1A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2AF-62F9-4637-B3DE-71E348D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EA7-D2D1-4469-A13D-5723FD6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C8E1-F919-48F8-9E4D-EF8289C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A1D-A948-42EB-BF65-B9E9B2CA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529-38B6-4A3F-AD59-A6D2E08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A4A0-F285-4CA0-B603-26D5F04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CCBA-4294-4434-AA51-4D7DDCDA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2DE5-B27D-4E06-A6B7-D2A04F3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4FC8-465E-466F-A27D-CD00421E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752-B819-4F7D-8AB7-290F8D3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996-A34D-4BA4-AA4D-9238E18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5C5-4F40-4CC8-B277-3B0A63D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C09-8660-4C24-A61E-A2CCE39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DFF-11E4-46CD-973F-861576D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9C9-E825-4C7D-BCB4-D86748E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3D9-54BD-4931-BCA5-6711A15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46E-F876-4B04-A543-6B80A6EA1B9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FF3-D1DD-48A7-BA04-6E94EC34D68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image" Target="../media/image11.gi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55640" y="1557360"/>
            <a:ext cx="792000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.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方根（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70920" y="6043680"/>
            <a:ext cx="72216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2276640"/>
            <a:ext cx="88930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平方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记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平方根是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8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的平方根记作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平方根是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6080" y="472428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平方根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71640" y="4653000"/>
                <a:ext cx="1079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4000" y="1052640"/>
            <a:ext cx="8820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★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个正数有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平方根，它们互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平方根是                ，负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133720"/>
            <a:ext cx="136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2133720"/>
            <a:ext cx="1800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2200" y="429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365720"/>
            <a:ext cx="2195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64360" y="2781360"/>
            <a:ext cx="1979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373720"/>
            <a:ext cx="1655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165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327852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93400" y="10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反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26000" y="164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0000" y="162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没有平方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00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348000" y="2276640"/>
                <a:ext cx="79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10920" y="234936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±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236000" y="2276640"/>
                <a:ext cx="13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400560" y="300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419640" y="3036960"/>
                <a:ext cx="792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87280" y="3789360"/>
                <a:ext cx="14115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06420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080" y="306864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9"/>
          <p:cNvSpPr/>
          <p:nvPr/>
        </p:nvSpPr>
        <p:spPr>
          <a:xfrm>
            <a:off x="250920" y="1986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判断下列各式计算是否正确，并说明理由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12" name="Object 30"/>
          <p:cNvGraphicFramePr/>
          <p:nvPr/>
        </p:nvGraphicFramePr>
        <p:xfrm>
          <a:off x="1214280" y="2984400"/>
          <a:ext cx="2928960" cy="24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984400"/>
                    <a:ext cx="292896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组合 63"/>
          <p:cNvGrpSpPr/>
          <p:nvPr/>
        </p:nvGrpSpPr>
        <p:grpSpPr>
          <a:xfrm>
            <a:off x="4500720" y="3127320"/>
            <a:ext cx="357120" cy="357120"/>
            <a:chOff x="4500720" y="3127320"/>
            <a:chExt cx="357120" cy="357120"/>
          </a:xfrm>
        </p:grpSpPr>
        <p:sp>
          <p:nvSpPr>
            <p:cNvPr id="215" name="直接连接符 5"/>
            <p:cNvSpPr/>
            <p:nvPr/>
          </p:nvSpPr>
          <p:spPr>
            <a:xfrm>
              <a:off x="4500720" y="3127320"/>
              <a:ext cx="35712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直接连接符 6"/>
            <p:cNvSpPr/>
            <p:nvPr/>
          </p:nvSpPr>
          <p:spPr>
            <a:xfrm flipH="1">
              <a:off x="4500720" y="3127320"/>
              <a:ext cx="35712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7" name="组合 63"/>
          <p:cNvGrpSpPr/>
          <p:nvPr/>
        </p:nvGrpSpPr>
        <p:grpSpPr>
          <a:xfrm>
            <a:off x="4500720" y="4913280"/>
            <a:ext cx="357120" cy="357120"/>
            <a:chOff x="4500720" y="4913280"/>
            <a:chExt cx="357120" cy="357120"/>
          </a:xfrm>
        </p:grpSpPr>
        <p:sp>
          <p:nvSpPr>
            <p:cNvPr id="218" name="直接连接符 8"/>
            <p:cNvSpPr/>
            <p:nvPr/>
          </p:nvSpPr>
          <p:spPr>
            <a:xfrm>
              <a:off x="4500720" y="4913280"/>
              <a:ext cx="35712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直接连接符 9"/>
            <p:cNvSpPr/>
            <p:nvPr/>
          </p:nvSpPr>
          <p:spPr>
            <a:xfrm flipH="1">
              <a:off x="4500720" y="4913280"/>
              <a:ext cx="35712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0" name="组合 72"/>
          <p:cNvGrpSpPr/>
          <p:nvPr/>
        </p:nvGrpSpPr>
        <p:grpSpPr>
          <a:xfrm>
            <a:off x="4428360" y="3912840"/>
            <a:ext cx="571680" cy="571320"/>
            <a:chOff x="4428360" y="3912840"/>
            <a:chExt cx="571680" cy="571320"/>
          </a:xfrm>
        </p:grpSpPr>
        <p:sp>
          <p:nvSpPr>
            <p:cNvPr id="221" name="直接连接符 11"/>
            <p:cNvSpPr/>
            <p:nvPr/>
          </p:nvSpPr>
          <p:spPr>
            <a:xfrm>
              <a:off x="4428360" y="4198680"/>
              <a:ext cx="21420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直接连接符 12"/>
            <p:cNvSpPr/>
            <p:nvPr/>
          </p:nvSpPr>
          <p:spPr>
            <a:xfrm flipV="1">
              <a:off x="4642560" y="3912840"/>
              <a:ext cx="35748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23" name="图片 6" descr="tb.png"/>
          <p:cNvPicPr/>
          <p:nvPr/>
        </p:nvPicPr>
        <p:blipFill>
          <a:blip r:embed="rId4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4" name=""/>
          <p:cNvSpPr txBox="1"/>
          <p:nvPr/>
        </p:nvSpPr>
        <p:spPr>
          <a:xfrm>
            <a:off x="539640" y="404640"/>
            <a:ext cx="13716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7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说出下列各式的意义，并求它们的值：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26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7" name=""/>
          <p:cNvSpPr txBox="1"/>
          <p:nvPr/>
        </p:nvSpPr>
        <p:spPr>
          <a:xfrm>
            <a:off x="468360" y="333360"/>
            <a:ext cx="137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58920" y="2492280"/>
                <a:ext cx="936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421000"/>
                <a:ext cx="1511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435640" y="2276640"/>
                <a:ext cx="1152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1380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92360" y="3357720"/>
                <a:ext cx="1873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547640" y="4437000"/>
                <a:ext cx="2214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619280" y="5445000"/>
                <a:ext cx="2108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62064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例、求下列各式的值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4x²=1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X</a:t>
            </a:r>
            <a:r>
              <a:rPr b="1" lang="zh-CN" sz="4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=50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9Y</a:t>
            </a:r>
            <a:r>
              <a:rPr b="1" lang="zh-CN" sz="4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-1=48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86080" y="2906640"/>
            <a:ext cx="632592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天你收获了什么？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学习小结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1197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平方根的概念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73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个数的平方等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个数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平方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3760" y="2349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平方根的性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924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个正数的平方根有两个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们互为相反数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500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平方根还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407664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负数没有平方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4000" y="4437000"/>
            <a:ext cx="6476760" cy="770040"/>
            <a:chOff x="324000" y="4437000"/>
            <a:chExt cx="6476760" cy="770040"/>
          </a:xfrm>
        </p:grpSpPr>
        <p:sp>
          <p:nvSpPr>
            <p:cNvPr id="246" name=""/>
            <p:cNvSpPr/>
            <p:nvPr/>
          </p:nvSpPr>
          <p:spPr>
            <a:xfrm>
              <a:off x="324000" y="45961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3.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平方根的表示法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: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56040" y="4437000"/>
                  <a:ext cx="26668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00720" y="3500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924360" y="60930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9289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达标训练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1)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平方根是（           ），算术平方根是（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0.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平方根是（          ），算术平方根是（         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－      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个平方根，那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另一个平方根是（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根等于它本身的数是（      ），算术平方根等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本身的数是（            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数的平方等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0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个数是（     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6) √(-5)</a:t>
            </a:r>
            <a:r>
              <a:rPr b="1" lang="zh-CN" sz="28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96960" y="2120760"/>
            <a:ext cx="844560" cy="544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76720" y="549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9640" y="1125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0.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3573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0.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24720" y="5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29973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2565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112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4292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308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9400" y="-184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332000" y="1628640"/>
            <a:ext cx="768240" cy="64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68360" y="5229360"/>
            <a:ext cx="8209080" cy="1628640"/>
          </a:xfrm>
          <a:custGeom>
            <a:avLst/>
            <a:gdLst>
              <a:gd name="textAreaLeft" fmla="*/ 0 w 8209080"/>
              <a:gd name="textAreaRight" fmla="*/ 8209080 w 8209080"/>
              <a:gd name="textAreaTop" fmla="*/ 210960 h 1628640"/>
              <a:gd name="textAreaBottom" fmla="*/ 141768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54450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借助达标训练，是为了加强对本节所学知识的巩固，实现重难点的落实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132000" y="765000"/>
            <a:ext cx="23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堂清检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习题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题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132000" y="260280"/>
            <a:ext cx="16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964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通过上面的练习可以得到平方根的性质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280" y="2066760"/>
            <a:ext cx="93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个正数有两个平方根，它们互为相反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336384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零的平方根是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0" y="465948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负数没有平方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平方根的概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求一个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非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方 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确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方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算术平方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联系与区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620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求下列各数的平方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197000"/>
            <a:ext cx="8763120" cy="1037880"/>
            <a:chOff x="0" y="1197000"/>
            <a:chExt cx="8763120" cy="1037880"/>
          </a:xfrm>
        </p:grpSpPr>
        <p:sp>
          <p:nvSpPr>
            <p:cNvPr id="279" name=""/>
            <p:cNvSpPr/>
            <p:nvPr/>
          </p:nvSpPr>
          <p:spPr>
            <a:xfrm>
              <a:off x="0" y="1393560"/>
              <a:ext cx="876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0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.4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       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5216400" y="1199880"/>
                  <a:ext cx="60192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7451640" y="1197000"/>
                  <a:ext cx="63504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304920" y="2286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解：    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627280" y="2125800"/>
                <a:ext cx="2901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2195640" y="393372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∴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平方根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±1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54240" y="4800600"/>
            <a:ext cx="5465880" cy="730080"/>
            <a:chOff x="2154240" y="4800600"/>
            <a:chExt cx="5465880" cy="73008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181480" y="4800600"/>
                  <a:ext cx="243864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2154240" y="48340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注意：不能写成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380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请你妨照上面的例子完成其余三个小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482920" y="2925720"/>
            <a:ext cx="3312720" cy="863280"/>
            <a:chOff x="2482920" y="2925720"/>
            <a:chExt cx="3312720" cy="863280"/>
          </a:xfrm>
        </p:grpSpPr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3386160" y="2925720"/>
                  <a:ext cx="240948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"/>
            <p:cNvSpPr/>
            <p:nvPr/>
          </p:nvSpPr>
          <p:spPr>
            <a:xfrm>
              <a:off x="2482920" y="3041640"/>
              <a:ext cx="7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284720" y="18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练一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68360" y="333360"/>
            <a:ext cx="835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练习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下列说法中不正确的个数有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.2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平方根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.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-0.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平方 根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-0.2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只有正数才有平方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平方根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9280" y="415620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A.  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个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. 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个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.   C. 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个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. 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61240" y="11318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下列各数有没有平方根，如果有平方根，试求出它的平方根；如果没有平方根，说明理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76520" y="2209680"/>
            <a:ext cx="3352680" cy="3547800"/>
            <a:chOff x="1676520" y="2209680"/>
            <a:chExt cx="3352680" cy="3547800"/>
          </a:xfrm>
        </p:grpSpPr>
        <p:sp>
          <p:nvSpPr>
            <p:cNvPr id="298" name=""/>
            <p:cNvSpPr/>
            <p:nvPr/>
          </p:nvSpPr>
          <p:spPr>
            <a:xfrm>
              <a:off x="1676520" y="2209680"/>
              <a:ext cx="3352680" cy="35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81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－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81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2819520" y="4343040"/>
                  <a:ext cx="10666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874960" y="5036760"/>
                  <a:ext cx="92088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9289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达标训练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1)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平方根是（           ），算术平方根是（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0.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平方根是（          ），算术平方根是（         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－      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个平方根，那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另一个平方根是（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根等于它本身的数是（      ），算术平方根等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本身的数是（            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数的平方等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0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个数是（              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6) √(-5)</a:t>
            </a:r>
            <a:r>
              <a:rPr b="1" lang="zh-CN" sz="2800" spc="-1" strike="noStrike" baseline="38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下列各数的平方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 ，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1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96960" y="2120760"/>
            <a:ext cx="844560" cy="544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148360" y="4365720"/>
            <a:ext cx="83340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276720" y="549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19640" y="1125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0.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3573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0.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24720" y="5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29973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76720" y="2565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67640" y="112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48690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4292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308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9400" y="-184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611280" y="0"/>
            <a:ext cx="1000080" cy="828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1332000" y="1628640"/>
            <a:ext cx="768240" cy="649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8360" y="5229360"/>
            <a:ext cx="8209080" cy="1628640"/>
          </a:xfrm>
          <a:custGeom>
            <a:avLst/>
            <a:gdLst>
              <a:gd name="textAreaLeft" fmla="*/ 0 w 8209080"/>
              <a:gd name="textAreaRight" fmla="*/ 8209080 w 8209080"/>
              <a:gd name="textAreaTop" fmla="*/ 210960 h 1628640"/>
              <a:gd name="textAreaBottom" fmla="*/ 141768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" y="54450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借助达标训练，是为了加强对本节所学知识的巩固，实现重难点的落实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80880"/>
            <a:ext cx="205740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探究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28560" y="1219320"/>
                <a:ext cx="788508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）求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（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（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，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的值，对于任意数</m:t>
                        </m:r>
                        <m:r>
                          <m:t xml:space="preserve">a</m:t>
                        </m:r>
                        <m:r>
                          <m:t xml:space="preserve">，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04920" y="3429000"/>
                <a:ext cx="883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练习：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（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，则</m:t>
                    </m:r>
                    <m:r>
                      <m:t xml:space="preserve">m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　　　　　</m:t>
                        </m:r>
                      </m:e>
                    </m:ba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57200" y="4437000"/>
                <a:ext cx="79246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（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则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取值范围是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　</m:t>
                            </m:r>
                          </m:e>
                        </m:ba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841440" y="350532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-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61320" y="5562720"/>
            <a:ext cx="10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a≤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09280" y="5081760"/>
            <a:ext cx="183960" cy="21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</a:rPr>
              <a:t>|a|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0" y="3429000"/>
                <a:ext cx="91440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）求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，</m:t>
                        </m:r>
                      </m:e>
                      <m:e>
                        <m:r>
                          <m:t xml:space="preserve">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的值，对于任意非负数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04920" y="380880"/>
            <a:ext cx="205740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探究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4952880"/>
            <a:ext cx="60948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438280" y="1066680"/>
                <a:ext cx="60660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（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</m:e>
                      <m:e>
                        <m:r>
                          <m:t xml:space="preserve">则x</m:t>
                        </m:r>
                        <m:r>
                          <m:rPr>
                            <m:lit/>
                            <m:nor/>
                          </m:rPr>
                          <m:t xml:space="preserve">的取值范围是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　　　　　</m:t>
                            </m:r>
                          </m:e>
                        </m:bar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670440" y="1855800"/>
            <a:ext cx="10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X≤0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108000" y="115920"/>
          <a:ext cx="14605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460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868040" y="198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思考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隶书"/>
              </a:rPr>
              <a:t>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99200" y="1817640"/>
            <a:ext cx="6888240" cy="2502000"/>
            <a:chOff x="799200" y="1817640"/>
            <a:chExt cx="6888240" cy="2502000"/>
          </a:xfrm>
        </p:grpSpPr>
        <p:sp>
          <p:nvSpPr>
            <p:cNvPr id="335" name=""/>
            <p:cNvSpPr/>
            <p:nvPr/>
          </p:nvSpPr>
          <p:spPr>
            <a:xfrm>
              <a:off x="799200" y="1817640"/>
              <a:ext cx="6888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下列各式哪些有意义，哪些没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有意义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（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1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）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-                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（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2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）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（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3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）                 （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4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）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530440" y="3002040"/>
                  <a:ext cx="685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5572080" y="3002040"/>
                  <a:ext cx="9363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2259000" y="3632400"/>
                  <a:ext cx="107928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618160" y="3573360"/>
                <a:ext cx="1185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115960" y="4495680"/>
            <a:ext cx="3752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-0.0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=</a:t>
            </a:r>
            <a:r>
              <a:rPr b="0" lang="zh-CN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77680" y="365760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 =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54000" y="281952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 =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57200"/>
            <a:ext cx="2819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Times New Roman"/>
                <a:ea typeface="华文行楷"/>
              </a:rPr>
              <a:t>探索 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Arial"/>
              </a:rPr>
              <a:t>&amp;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1295280"/>
            <a:ext cx="797040" cy="457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0360" y="1219320"/>
            <a:ext cx="435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-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68560" y="1246320"/>
            <a:ext cx="74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若        有意义，那么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a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的范围是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---------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133720"/>
            <a:ext cx="796680" cy="457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080" y="2030400"/>
            <a:ext cx="24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68560" y="2025720"/>
            <a:ext cx="74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若        有意义，那么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a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的范围是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---------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-805320" y="2863800"/>
            <a:ext cx="5508360" cy="750600"/>
            <a:chOff x="-805320" y="2863800"/>
            <a:chExt cx="5508360" cy="750600"/>
          </a:xfrm>
        </p:grpSpPr>
        <p:sp>
          <p:nvSpPr>
            <p:cNvPr id="351" name=""/>
            <p:cNvSpPr/>
            <p:nvPr/>
          </p:nvSpPr>
          <p:spPr>
            <a:xfrm>
              <a:off x="270000" y="2971800"/>
              <a:ext cx="1254240" cy="457200"/>
            </a:xfrm>
            <a:custGeom>
              <a:avLst/>
              <a:gdLst/>
              <a:ahLst/>
              <a:rect l="l" t="t" r="r" b="b"/>
              <a:pathLst>
                <a:path w="1196" h="766">
                  <a:moveTo>
                    <a:pt x="0" y="514"/>
                  </a:moveTo>
                  <a:lnTo>
                    <a:pt x="99" y="460"/>
                  </a:lnTo>
                  <a:lnTo>
                    <a:pt x="255" y="692"/>
                  </a:lnTo>
                  <a:lnTo>
                    <a:pt x="431" y="0"/>
                  </a:lnTo>
                  <a:lnTo>
                    <a:pt x="1196" y="0"/>
                  </a:lnTo>
                  <a:lnTo>
                    <a:pt x="1196" y="35"/>
                  </a:lnTo>
                  <a:lnTo>
                    <a:pt x="458" y="35"/>
                  </a:lnTo>
                  <a:lnTo>
                    <a:pt x="272" y="766"/>
                  </a:lnTo>
                  <a:lnTo>
                    <a:pt x="236" y="766"/>
                  </a:lnTo>
                  <a:lnTo>
                    <a:pt x="60" y="505"/>
                  </a:lnTo>
                  <a:lnTo>
                    <a:pt x="11" y="53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840" y="2971800"/>
              <a:ext cx="17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0.01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-805320" y="2863800"/>
              <a:ext cx="5508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（           ）</a:t>
              </a:r>
              <a:r>
                <a:rPr b="0" lang="zh-CN" sz="3600" spc="-1" strike="noStrike" baseline="30000">
                  <a:solidFill>
                    <a:srgbClr val="0033cc"/>
                  </a:solidFill>
                  <a:latin typeface="Arial"/>
                  <a:ea typeface="隶书"/>
                </a:rPr>
                <a:t>2</a:t>
              </a:r>
              <a:r>
                <a:rPr b="0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=</a:t>
              </a:r>
              <a:r>
                <a:rPr b="0" lang="zh-CN" sz="3600" spc="-1" strike="noStrike" baseline="-25000">
                  <a:solidFill>
                    <a:srgbClr val="0033cc"/>
                  </a:solidFill>
                  <a:latin typeface="Arial"/>
                  <a:ea typeface="隶书"/>
                </a:rPr>
                <a:t>--------------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74560" y="3765600"/>
            <a:ext cx="949320" cy="457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3765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-729000" y="3701880"/>
            <a:ext cx="55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（           ）</a:t>
            </a:r>
            <a:r>
              <a:rPr b="0" lang="zh-CN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=</a:t>
            </a:r>
            <a:r>
              <a:rPr b="0" lang="zh-CN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0880" y="4451400"/>
            <a:ext cx="873000" cy="457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445140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729000" y="4343400"/>
            <a:ext cx="55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（           ）</a:t>
            </a:r>
            <a:r>
              <a:rPr b="0" lang="zh-CN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=</a:t>
            </a:r>
            <a:r>
              <a:rPr b="0" lang="zh-CN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4343400"/>
            <a:ext cx="2666880" cy="6858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98920" y="292752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0.0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64000" y="3657600"/>
            <a:ext cx="1113120" cy="52056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03840" y="3720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08680" y="5867280"/>
            <a:ext cx="873000" cy="457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160" y="586728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58200" y="5867280"/>
            <a:ext cx="183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=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34880" y="518148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33cc"/>
                </a:solidFill>
                <a:latin typeface="Arial"/>
                <a:ea typeface="隶书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 =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  <a:ea typeface="隶书"/>
              </a:rPr>
              <a:t>-------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22880" y="5181480"/>
            <a:ext cx="1711440" cy="53352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5257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-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2819520"/>
            <a:ext cx="1570320" cy="565200"/>
          </a:xfrm>
          <a:custGeom>
            <a:avLst/>
            <a:gdLst/>
            <a:ahLst/>
            <a:rect l="l" t="t" r="r" b="b"/>
            <a:pathLst>
              <a:path w="1196" h="766">
                <a:moveTo>
                  <a:pt x="0" y="514"/>
                </a:moveTo>
                <a:lnTo>
                  <a:pt x="99" y="460"/>
                </a:lnTo>
                <a:lnTo>
                  <a:pt x="255" y="692"/>
                </a:lnTo>
                <a:lnTo>
                  <a:pt x="431" y="0"/>
                </a:lnTo>
                <a:lnTo>
                  <a:pt x="1196" y="0"/>
                </a:lnTo>
                <a:lnTo>
                  <a:pt x="1196" y="35"/>
                </a:lnTo>
                <a:lnTo>
                  <a:pt x="458" y="35"/>
                </a:lnTo>
                <a:lnTo>
                  <a:pt x="272" y="766"/>
                </a:lnTo>
                <a:lnTo>
                  <a:pt x="236" y="766"/>
                </a:lnTo>
                <a:lnTo>
                  <a:pt x="60" y="505"/>
                </a:lnTo>
                <a:lnTo>
                  <a:pt x="11" y="534"/>
                </a:lnTo>
                <a:lnTo>
                  <a:pt x="0" y="5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《课堂十分钟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6316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堂清检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学习小结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493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本节课我们学习了哪些内容，你能回答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197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平方根的概念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1773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个数的平方等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个数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平方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3760" y="23493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平方根的性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2924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个正数的平方根有两个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它们互为相反数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3500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平方根还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407664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负数没有平方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4000" y="4437000"/>
            <a:ext cx="6476760" cy="770040"/>
            <a:chOff x="324000" y="4437000"/>
            <a:chExt cx="6476760" cy="770040"/>
          </a:xfrm>
        </p:grpSpPr>
        <p:sp>
          <p:nvSpPr>
            <p:cNvPr id="382" name=""/>
            <p:cNvSpPr/>
            <p:nvPr/>
          </p:nvSpPr>
          <p:spPr>
            <a:xfrm>
              <a:off x="324000" y="45961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3.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平方根的表示法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华文新魏"/>
                </a:rPr>
                <a:t>: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956040" y="4437000"/>
                  <a:ext cx="26668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ad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4" name=""/>
          <p:cNvSpPr/>
          <p:nvPr/>
        </p:nvSpPr>
        <p:spPr>
          <a:xfrm>
            <a:off x="681120" y="52293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于任意实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780000" y="5300640"/>
                <a:ext cx="1008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²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859280" y="5229360"/>
            <a:ext cx="12193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</a:rPr>
              <a:t>|a|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56160" y="582768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于任意非负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500720" y="3500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924360" y="60930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3780000" y="5950080"/>
            <a:ext cx="1031760" cy="669960"/>
            <a:chOff x="3780000" y="5950080"/>
            <a:chExt cx="1031760" cy="669960"/>
          </a:xfrm>
        </p:grpSpPr>
        <p:sp>
          <p:nvSpPr>
            <p:cNvPr id="394" name=""/>
            <p:cNvSpPr/>
            <p:nvPr/>
          </p:nvSpPr>
          <p:spPr>
            <a:xfrm>
              <a:off x="4500720" y="59500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3780000" y="6089760"/>
                  <a:ext cx="79056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a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>
            <a:off x="4696560" y="61596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03640" y="6021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44—P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温馨提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完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4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“思考”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的表格，理解平方根的概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4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间两个“椭圆”中内容的联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什么是开平方？（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开平方运算和平方运算是互为逆运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意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解题步骤和格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分钟后进行检测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43280" y="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指导  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9480" y="736200"/>
            <a:ext cx="8466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作业布置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必做题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选做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a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a-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个平方根，试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332000" y="3581280"/>
                <a:ext cx="7267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004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求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239840" y="420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4481640"/>
            <a:ext cx="3379320" cy="2376360"/>
            <a:chOff x="0" y="4481640"/>
            <a:chExt cx="3379320" cy="2376360"/>
          </a:xfrm>
        </p:grpSpPr>
        <p:sp>
          <p:nvSpPr>
            <p:cNvPr id="403" name=""/>
            <p:cNvSpPr/>
            <p:nvPr/>
          </p:nvSpPr>
          <p:spPr>
            <a:xfrm>
              <a:off x="41400" y="4481640"/>
              <a:ext cx="3337920" cy="2376360"/>
            </a:xfrm>
            <a:prstGeom prst="horizont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0" y="4630680"/>
            <a:ext cx="3151080" cy="196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630680"/>
                      <a:ext cx="3151080" cy="19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6" name="" descr=""/>
            <p:cNvPicPr/>
            <p:nvPr/>
          </p:nvPicPr>
          <p:blipFill>
            <a:blip r:embed="rId4"/>
            <a:stretch/>
          </p:blipFill>
          <p:spPr>
            <a:xfrm>
              <a:off x="1620720" y="5233320"/>
              <a:ext cx="1172160" cy="10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4984920" y="456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564000" y="5373720"/>
            <a:ext cx="525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别忘了作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09" name=""/>
          <p:cNvSpPr/>
          <p:nvPr/>
        </p:nvSpPr>
        <p:spPr>
          <a:xfrm>
            <a:off x="5724360" y="692280"/>
            <a:ext cx="388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照顾学生间的差异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分类布置作业，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到前呼后应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solidFill>
            <a:srgbClr val="7d7da9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  <a:ea typeface="华文隶书"/>
              </a:rPr>
              <a:t>强    化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一个数的算术平方根等于它本身，这个数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=1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-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算术平方根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 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a+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平方根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±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rial"/>
              </a:rPr>
              <a:t>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算术平方根是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    的平方根等于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算术平方根等于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042920" y="4653000"/>
                <a:ext cx="1008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华文隶书"/>
                <a:ea typeface="华文隶书"/>
              </a:rPr>
              <a:t>训          练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若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|a-9|+               =0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则       的平方根是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    。</a:t>
            </a:r>
            <a:br>
              <a:rPr sz="3200"/>
            </a:b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                                   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算术平方根是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已知△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的三边分别是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且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Arial"/>
              </a:rPr>
              <a:t>²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-4b+4=0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的取值范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2771640" y="1413000"/>
                <a:ext cx="172908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5940360" y="1557360"/>
                <a:ext cx="561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1403280" y="3213000"/>
                <a:ext cx="3960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的平方根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1332000" y="4797360"/>
                <a:ext cx="1800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solidFill>
            <a:srgbClr val="7d7da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Arial"/>
                <a:ea typeface="华文隶书"/>
              </a:rPr>
              <a:t>提      高</a:t>
            </a:r>
            <a:endParaRPr b="0" lang="en-US" sz="8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已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y=            +            +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y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算术平方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2627280" y="1916280"/>
                <a:ext cx="136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6"/>
              <p:cNvSpPr txBox="1"/>
              <p:nvPr/>
            </p:nvSpPr>
            <p:spPr>
              <a:xfrm>
                <a:off x="4211640" y="184464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1280" y="1700280"/>
                <a:ext cx="30243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m>
                      <m:mr>
                        <m:e/>
                        <m:e/>
                      </m:mr>
                    </m:m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126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认真观察下式可知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我们把括号里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±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平方根概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60280"/>
            <a:ext cx="223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527840" y="5251320"/>
            <a:ext cx="58946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取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互为相反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两个数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非负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(a≥0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81240" y="188748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±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8440" y="2997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平方根（二次方根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8360" y="4076640"/>
            <a:ext cx="1111320" cy="641160"/>
            <a:chOff x="468360" y="4076640"/>
            <a:chExt cx="1111320" cy="641160"/>
          </a:xfrm>
        </p:grpSpPr>
        <p:sp>
          <p:nvSpPr>
            <p:cNvPr id="98" name=""/>
            <p:cNvSpPr/>
            <p:nvPr/>
          </p:nvSpPr>
          <p:spPr>
            <a:xfrm flipV="1">
              <a:off x="468360" y="4714560"/>
              <a:ext cx="1111320" cy="32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6480" y="4076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平方根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9280" y="3429000"/>
            <a:ext cx="8610480" cy="1338120"/>
            <a:chOff x="179280" y="3429000"/>
            <a:chExt cx="8610480" cy="1338120"/>
          </a:xfrm>
        </p:grpSpPr>
        <p:sp>
          <p:nvSpPr>
            <p:cNvPr id="101" name=""/>
            <p:cNvSpPr/>
            <p:nvPr/>
          </p:nvSpPr>
          <p:spPr>
            <a:xfrm>
              <a:off x="179280" y="356544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一般地，如果               ，那么      叫      的           ，   叫做 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x 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   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525480" y="3429000"/>
                  <a:ext cx="152424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7341840" y="3641760"/>
                  <a:ext cx="4478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351480" y="3641760"/>
                  <a:ext cx="44748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931760" y="4113360"/>
                  <a:ext cx="4478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3009600" y="4006800"/>
                  <a:ext cx="4032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3851280" y="4149720"/>
            <a:ext cx="1533600" cy="587160"/>
            <a:chOff x="3851280" y="4149720"/>
            <a:chExt cx="1533600" cy="587160"/>
          </a:xfrm>
        </p:grpSpPr>
        <p:sp>
          <p:nvSpPr>
            <p:cNvPr id="108" name=""/>
            <p:cNvSpPr/>
            <p:nvPr/>
          </p:nvSpPr>
          <p:spPr>
            <a:xfrm flipV="1">
              <a:off x="3851280" y="4733640"/>
              <a:ext cx="1533600" cy="32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5360" y="4149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平方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700280"/>
            <a:ext cx="94489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、填空题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2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0.2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0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0.8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算术平方根是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；  平方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26920" y="3500280"/>
                <a:ext cx="62388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211640" y="2205000"/>
            <a:ext cx="609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140360" y="2852640"/>
                <a:ext cx="571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11640" y="3429000"/>
                <a:ext cx="376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213080" y="4221000"/>
            <a:ext cx="3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11640" y="5445000"/>
                <a:ext cx="469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67280" y="6021360"/>
                <a:ext cx="730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77040" y="5791320"/>
            <a:ext cx="887760" cy="99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50920" y="0"/>
            <a:ext cx="165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327456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根据概念求非负数的平方根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78136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342900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14972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479736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659772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602136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5373720"/>
            <a:ext cx="129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2205000"/>
            <a:ext cx="100836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±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98440" y="2852640"/>
            <a:ext cx="87120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±0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42080" y="3284640"/>
            <a:ext cx="874440" cy="936360"/>
            <a:chOff x="6742080" y="3284640"/>
            <a:chExt cx="874440" cy="936360"/>
          </a:xfrm>
        </p:grpSpPr>
        <p:sp>
          <p:nvSpPr>
            <p:cNvPr id="131" name=""/>
            <p:cNvSpPr/>
            <p:nvPr/>
          </p:nvSpPr>
          <p:spPr>
            <a:xfrm>
              <a:off x="6742080" y="3514680"/>
              <a:ext cx="375840" cy="52056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±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7092720" y="3284640"/>
                  <a:ext cx="523800" cy="93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" name=""/>
          <p:cNvSpPr/>
          <p:nvPr/>
        </p:nvSpPr>
        <p:spPr>
          <a:xfrm>
            <a:off x="6589440" y="4221000"/>
            <a:ext cx="35892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70080" y="5445000"/>
            <a:ext cx="77220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±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41360" y="6093000"/>
            <a:ext cx="87120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±0.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57720" y="4884840"/>
                <a:ext cx="235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018920" y="4941720"/>
            <a:ext cx="5176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±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640" y="404640"/>
            <a:ext cx="13716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260820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360" y="404640"/>
            <a:ext cx="40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仿照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求下列各数的平方根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197000"/>
            <a:ext cx="8763120" cy="1037880"/>
            <a:chOff x="0" y="1197000"/>
            <a:chExt cx="8763120" cy="1037880"/>
          </a:xfrm>
        </p:grpSpPr>
        <p:sp>
          <p:nvSpPr>
            <p:cNvPr id="142" name=""/>
            <p:cNvSpPr/>
            <p:nvPr/>
          </p:nvSpPr>
          <p:spPr>
            <a:xfrm>
              <a:off x="0" y="1393560"/>
              <a:ext cx="876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0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.4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       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5216400" y="1199880"/>
                  <a:ext cx="60192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7451640" y="1197000"/>
                  <a:ext cx="63504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20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求下列各数的平方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1197000"/>
            <a:ext cx="8763120" cy="1037880"/>
            <a:chOff x="0" y="1197000"/>
            <a:chExt cx="8763120" cy="1037880"/>
          </a:xfrm>
        </p:grpSpPr>
        <p:sp>
          <p:nvSpPr>
            <p:cNvPr id="147" name=""/>
            <p:cNvSpPr/>
            <p:nvPr/>
          </p:nvSpPr>
          <p:spPr>
            <a:xfrm>
              <a:off x="0" y="1393560"/>
              <a:ext cx="876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0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.4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       ；（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216400" y="1199880"/>
                  <a:ext cx="60192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7451640" y="1197000"/>
                  <a:ext cx="63504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"/>
          <p:cNvSpPr/>
          <p:nvPr/>
        </p:nvSpPr>
        <p:spPr>
          <a:xfrm>
            <a:off x="468720" y="202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0760" y="2349360"/>
            <a:ext cx="57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因为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±2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² =4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，所以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平方根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7320" y="3141720"/>
            <a:ext cx="60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因为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±1.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²=1.4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，所以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.4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平方根是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386064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67280" y="3716280"/>
                <a:ext cx="4809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3789360"/>
                <a:ext cx="480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08720" y="4724280"/>
                <a:ext cx="372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87640" y="4653000"/>
                <a:ext cx="43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44000" y="386064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810920" y="4005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933720"/>
            <a:ext cx="71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因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²=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，所以       的平方根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50720" y="4653000"/>
            <a:ext cx="771120" cy="866520"/>
            <a:chOff x="7650720" y="4653000"/>
            <a:chExt cx="771120" cy="866520"/>
          </a:xfrm>
        </p:grpSpPr>
        <p:sp>
          <p:nvSpPr>
            <p:cNvPr id="163" name=""/>
            <p:cNvSpPr/>
            <p:nvPr/>
          </p:nvSpPr>
          <p:spPr>
            <a:xfrm>
              <a:off x="7650720" y="48322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±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7958160" y="4653000"/>
                  <a:ext cx="4636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" name=""/>
          <p:cNvSpPr/>
          <p:nvPr/>
        </p:nvSpPr>
        <p:spPr>
          <a:xfrm>
            <a:off x="900000" y="4724280"/>
            <a:ext cx="71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因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±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²=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，所以       的平方根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95640" y="4724280"/>
                <a:ext cx="373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370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温馨提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思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问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理解并背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归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内容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道一个正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平方根用符号表示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:1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平方根可记为             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平方根是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±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84720" y="3860640"/>
                <a:ext cx="1079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 txBox="1"/>
          <p:nvPr/>
        </p:nvSpPr>
        <p:spPr>
          <a:xfrm>
            <a:off x="2843280" y="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学指导  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84720" y="2708280"/>
                <a:ext cx="1152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76360" y="4221000"/>
                <a:ext cx="1922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48436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92160"/>
            <a:ext cx="63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9288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02264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没有平方根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705720" y="992160"/>
          <a:ext cx="103500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992160"/>
                    <a:ext cx="103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710400" y="19065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634080" y="2830680"/>
          <a:ext cx="1251000" cy="104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34080" y="2830680"/>
                    <a:ext cx="12510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042920" y="486900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没有，因为不存在平方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-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数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93640"/>
            <a:ext cx="175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2973240"/>
            <a:ext cx="60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   的平方根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512720" y="2792520"/>
            <a:ext cx="971640" cy="100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79200" y="580536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从上面的回答中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发现了什么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0"/>
            <a:ext cx="223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7:09:17Z</dcterms:created>
  <dc:creator/>
  <dc:description/>
  <dc:language>en-US</dc:language>
  <cp:lastModifiedBy>User</cp:lastModifiedBy>
  <dcterms:modified xsi:type="dcterms:W3CDTF">2014-08-22T08:30:24Z</dcterms:modified>
  <cp:revision>167</cp:revision>
  <dc:subject/>
  <dc:title>平方根 </dc:title>
</cp:coreProperties>
</file>